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C302-97D1-4E26-BE5F-2E8980FC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79B5-10D3-412E-980E-B550CF73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C89-905E-4893-AF7E-C071F53D4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A9B4-864C-435C-BEB6-822DACBC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9264-E820-4187-AF9B-01E057E0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BB0D-CA91-4C4D-AD50-67059D9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E09E-2951-46BE-89E8-EDBB2B30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3296-DEFC-422C-981B-AAE86FB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9EA0-7069-4975-BCC9-0FBA9A9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F2E6-229D-4CE8-818D-FA7125C6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1841-36D0-477C-A6AF-DA729CA3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DECA-6496-4CD3-940F-1A0CA6A8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B0F4-3B63-4E38-AA73-5C1837FB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375C-9A32-4566-848F-7563CA32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11CF-846D-4577-A1AA-34F0EDE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0E6C-6855-44C7-903B-2CECE55D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261E-2E80-411B-B4B4-6BA2E53D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B5E-72D4-474E-915F-53C73883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A3E-B4BD-46FE-AF82-F053B1BE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85B-D82D-4BCB-9DF1-34761D3F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CD5-C5C3-4787-9AEA-BB6ADECE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4EA-60C4-46F4-AA8D-AB54C38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6A3-8269-4853-AA52-365C7BD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89F-C479-4A18-9716-116BB90C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8E98-27E4-47EF-9051-9DFC67109B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458A-5120-4CD2-B109-38172BD005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Hardware Loop Suppor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4211 Advanced Archit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by Shannon K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clus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ble altern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e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iler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benchmark code te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otiv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explicit loop support in general-purpose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iversity of loop implemen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Thus, ASIPs have ZOL suppor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Different hardware and software approaches to optimise loop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mmon programming paradigms (general purpose) also execute many standard “for”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ry to exploit thi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o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5486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branch misprediction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y to precompute branch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hardwar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complex predi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oftwar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 instructions reduce code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oop unro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loop management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 loop in parallel to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bd04912_" descr=""/>
          <p:cNvPicPr/>
          <p:nvPr/>
        </p:nvPicPr>
        <p:blipFill>
          <a:blip r:embed="rId1"/>
          <a:stretch/>
        </p:blipFill>
        <p:spPr>
          <a:xfrm>
            <a:off x="6248520" y="1752480"/>
            <a:ext cx="2319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op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95480" y="1828800"/>
            <a:ext cx="37339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 = 0; i &lt; N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y +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4191120"/>
            <a:ext cx="38862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: addi R1, R0, #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: addi R6, R0, #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2: addi R2, R2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3: addi R3, R3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4: addi R1, R1,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5: bne  R1, R6, #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4191120"/>
            <a:ext cx="38862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: addi R1, R0, #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: addi R6, R0, #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2: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loopinc R1, R6,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3: addi R2, R2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4: addi R3, R3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66520" y="3581280"/>
            <a:ext cx="20574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5812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op Manag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36576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Management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terReg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Reg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Addres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003 (next P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Addres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0004 (relativ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895120" y="1752120"/>
            <a:ext cx="39625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: addi R1, R0, #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: addi R6, R0, #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2: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loopinc R1, R6,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3: addi R2, R2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4: addi R3, R3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oop Exec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3657600"/>
            <a:ext cx="77724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= EndAddress, increment and che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nd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EndAddress is reached and R1 != R6 then update PC with StartAd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1752480"/>
            <a:ext cx="3962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: addi R1, R0, #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1: addi R6, R0, #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2: </a:t>
            </a:r>
            <a:r>
              <a:rPr b="1" lang="en-US" sz="1800" spc="-1" strike="noStrike">
                <a:solidFill>
                  <a:srgbClr val="3333ff"/>
                </a:solidFill>
                <a:latin typeface="Courier New"/>
              </a:rPr>
              <a:t>initinc R1, R6,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3: addi R2, R2, 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4: addi R3, R3,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forman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62120" y="2895480"/>
                <a:ext cx="7095960" cy="20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ati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ZO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δ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BBSize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Bsize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990720" y="1828800"/>
                <a:ext cx="50688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W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Bsize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196000" y="6248520"/>
            <a:ext cx="492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pplication of ZOL and AGEN in General Purpose Comp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nyung Namkoong, EE 482A Project, Spring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8680" y="5029200"/>
            <a:ext cx="340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issue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 rate for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9080" y="4952880"/>
            <a:ext cx="33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δ: Instructions removed by Z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: Branch miss pena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size: Basic Block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ver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2849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81080" y="6172200"/>
            <a:ext cx="510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pplication of ZOL and AGEN in General Purpose Comp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nyung Namkoong, EE 482A Project, Spring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648320"/>
            <a:ext cx="77724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Ls not handled at the compiler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regular branch distances wer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lement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d support with loop nest st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suppor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ing of non-ZOL type loop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Behavioural VHD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 MIPS proces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7848 cells, 55 MH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register file and memor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p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086 cells, 190 MH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noptimis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1:56:57Z</dcterms:created>
  <dc:creator>Shannon Koh</dc:creator>
  <dc:description/>
  <dc:language>en-US</dc:language>
  <cp:lastModifiedBy>CSE</cp:lastModifiedBy>
  <dcterms:modified xsi:type="dcterms:W3CDTF">2004-06-09T05:47:44Z</dcterms:modified>
  <cp:revision>18</cp:revision>
  <dc:subject/>
  <dc:title>Hardware Loop Support</dc:title>
</cp:coreProperties>
</file>